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570E-959F-47F8-9E14-AB013B4A9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73BA-FF18-4774-8E35-E79065D10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0DB7-B506-497C-AF3E-299FDEE65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9204-9326-44B9-9368-0619220B8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5860-99F5-4991-A7AA-76CFB5CF3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73C5-B321-44EA-AB00-3FD3881CC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4A95-A081-4C33-9F34-0989694C0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5DBC-1313-45AF-8F6C-243E5CEE5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FF3F-1C06-439F-BEA5-30D28DB1D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FFA3-7F7A-4EDB-AD4A-C11971689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3570-EE2B-43CB-96EE-20108E538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AB71-A326-42F7-BEBE-89CC65680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8B1-A0CE-4B05-8441-D99085B06326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01960"/>
            <a:ext cx="0" cy="20340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15880" y="1359000"/>
            <a:ext cx="6363000" cy="41367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4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58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dit.unitn.it/~p2p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1495440"/>
            <a:ext cx="6119640" cy="341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9040" y="3628800"/>
            <a:ext cx="62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3320" y="5657760"/>
            <a:ext cx="23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8560" y="3917160"/>
            <a:ext cx="59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aper with Fausto Giunchi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46040" y="4556520"/>
            <a:ext cx="66214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Research group (alphabetically ordered)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Fausto Giunchiglia, Pavel Shvaiko, Mikalai Yatskevich, Ilya Zaihraye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EEF0-22A4-41F4-AA3C-FA4DED84D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09200" y="1707840"/>
            <a:ext cx="7759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coefficient, which measures the similarity between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effici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[0,1]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808080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0.7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&gt;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CE32-D7EB-434C-8B6F-47F1E57F4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The State of the Ar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5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upid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is a hybrid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matching prototype.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 It exploits linguistic and structural schema matching heuristics, and computes similarity coefficients between nodes of the trees.</a:t>
            </a:r>
            <a:r>
              <a:rPr b="1" lang="ru-RU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imilarity Flood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hybrid matching prototype. It uses fix-point computation to determine correspondences between nodes of the graph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OM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composite matching prototype. It provides an extensible library of different matchers which manipulate DAGs and supports various ways of combining final result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s far as we know, so fa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y syntactic matching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D667-D3AA-4184-85C0-8E82D123E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69EA-0D68-4F30-A7BF-7FE42114D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9560" y="143208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i-th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j-th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semantic relation between the extensions of concepts at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Possib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’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ity {=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ping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match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general/specific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: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777777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{=}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D90-97CB-46BE-B7BD-A2E037C27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1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9600" y="3860640"/>
            <a:ext cx="7472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7520" y="1731960"/>
            <a:ext cx="613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63840" y="136224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3840" y="136224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4097160" y="1755720"/>
            <a:ext cx="1636920" cy="1236600"/>
            <a:chOff x="4097160" y="1755720"/>
            <a:chExt cx="1636920" cy="1236600"/>
          </a:xfrm>
        </p:grpSpPr>
        <p:sp>
          <p:nvSpPr>
            <p:cNvPr id="190" name=""/>
            <p:cNvSpPr/>
            <p:nvPr/>
          </p:nvSpPr>
          <p:spPr>
            <a:xfrm>
              <a:off x="4097160" y="2649600"/>
              <a:ext cx="37800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56080" y="1755720"/>
              <a:ext cx="378000" cy="34308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473120" y="4241880"/>
            <a:ext cx="70740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does not find a similarity coefficient between the nodes under consideration, due to the significant differences in structure of the given graphs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denoted by the label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29F8-7CD2-4E5E-983B-8B34B26D5A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2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2360" y="4091040"/>
            <a:ext cx="7037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76320" y="1515960"/>
            <a:ext cx="573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506600"/>
          <a:ext cx="539244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06600"/>
                    <a:ext cx="539244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22360" y="4457880"/>
            <a:ext cx="70358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= 0,86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 This is because of the identity of label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;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ince we have that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and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then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75280" y="2760840"/>
            <a:ext cx="2544480" cy="1211040"/>
            <a:chOff x="4175280" y="2760840"/>
            <a:chExt cx="2544480" cy="1211040"/>
          </a:xfrm>
        </p:grpSpPr>
        <p:sp>
          <p:nvSpPr>
            <p:cNvPr id="201" name=""/>
            <p:cNvSpPr/>
            <p:nvPr/>
          </p:nvSpPr>
          <p:spPr>
            <a:xfrm>
              <a:off x="4175280" y="276084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42120" y="362916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ADBA-E992-4AF6-B634-83D49EB29A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IMPLEMENT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A2ED-B7D6-4205-B7D9-0AB2E3E63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 Implementati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28720" y="1755720"/>
            <a:ext cx="6934320" cy="2044080"/>
            <a:chOff x="1728720" y="1755720"/>
            <a:chExt cx="6934320" cy="2044080"/>
          </a:xfrm>
        </p:grpSpPr>
        <p:sp>
          <p:nvSpPr>
            <p:cNvPr id="207" name=""/>
            <p:cNvSpPr/>
            <p:nvPr/>
          </p:nvSpPr>
          <p:spPr>
            <a:xfrm>
              <a:off x="4991040" y="217476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4680" y="1755720"/>
              <a:ext cx="32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2040" y="3195720"/>
              <a:ext cx="16956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29360" y="319248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3520" y="33400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tructure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28720" y="3328920"/>
              <a:ext cx="26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lement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87440" y="2343240"/>
              <a:ext cx="1818000" cy="83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7200" y="23432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699000" y="438300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ak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2520" y="5283360"/>
            <a:ext cx="29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ong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78000" y="3813120"/>
            <a:ext cx="725400" cy="1863720"/>
            <a:chOff x="3078000" y="3813120"/>
            <a:chExt cx="725400" cy="1863720"/>
          </a:xfrm>
        </p:grpSpPr>
        <p:sp>
          <p:nvSpPr>
            <p:cNvPr id="218" name=""/>
            <p:cNvSpPr/>
            <p:nvPr/>
          </p:nvSpPr>
          <p:spPr>
            <a:xfrm>
              <a:off x="3081240" y="3813120"/>
              <a:ext cx="0" cy="18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1240" y="4738680"/>
              <a:ext cx="72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8000" y="5661000"/>
              <a:ext cx="72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73A2-00A8-4A98-9168-14AB4DE6ED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60" y="1792440"/>
            <a:ext cx="70833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61640" indent="-1616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ak Semantics Techniqu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trings {=}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phone, telephon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data types {=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string, integer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nteger, re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oundex {=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F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Ph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6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trong Semantics Technique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Precompiled thesauru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yn key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Discount, Rebat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rt_#1, Humanities_#1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, where #1 … sense number 1 of the word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Art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according to WordNet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26BC-CB34-4F2C-9611-32EBE47338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8080" y="1801440"/>
            <a:ext cx="766908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yntac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n Implementing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ACCC-8A84-4B92-BACD-23649F00D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 (cont.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6440" y="1757160"/>
            <a:ext cx="79484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Relations via WordNe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ity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equal to another if there is at least one sense of the first concept, which is a synonym of the secon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p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overlapped with the other if there are some senses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tch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wo concepts are mismatched if they have no sense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more general then the other iff there exists at least one sense of the first concept that has a sense of the other as a hyponym or mer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less general than the other iff there exists at least one sense of the first concept that has a sense of the other concept as hypernym or as a hol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05D1-B264-4093-A4E1-F32DA7A4B1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tructure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11200" y="1951200"/>
            <a:ext cx="720432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translate the matching problem, namely the two graphs (in particular, the pair of nodes submitted to matching) into a propositional formula and then check for its validit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check for validity using SA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478-43A4-4CED-AC1A-DFCCEE6BF4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0640" y="1290240"/>
            <a:ext cx="7131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xtract the two graph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element-level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struct the propositional formula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Run S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erform itera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A415-E62A-410F-894F-8A26E1E92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1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3962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tract the two graph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127240" y="237348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240" y="237348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467000" y="4761000"/>
            <a:ext cx="74563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the case of RDB, XML and OODB schemas, it is necessary to extract useful semantic information, for instance in the form of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4289-BFF0-46F3-906A-4674F50B61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2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182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1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-level semantic matching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or each node, compute semantic relations holding among all the concepts denoted by labels at nodes under consideration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37000" y="2624040"/>
          <a:ext cx="5607000" cy="269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7000" y="2624040"/>
                    <a:ext cx="560700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1506600" y="2590920"/>
            <a:ext cx="7270560" cy="2361960"/>
            <a:chOff x="1506600" y="2590920"/>
            <a:chExt cx="7270560" cy="2361960"/>
          </a:xfrm>
        </p:grpSpPr>
        <p:sp>
          <p:nvSpPr>
            <p:cNvPr id="239" name=""/>
            <p:cNvSpPr/>
            <p:nvPr/>
          </p:nvSpPr>
          <p:spPr>
            <a:xfrm>
              <a:off x="1506600" y="4510080"/>
              <a:ext cx="15541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47680" indent="-247680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99000" y="2590920"/>
              <a:ext cx="3278160" cy="1333440"/>
            </a:xfrm>
            <a:custGeom>
              <a:avLst/>
              <a:gdLst/>
              <a:ahLst/>
              <a:rect l="l" t="t" r="r" b="b"/>
              <a:pathLst>
                <a:path w="2065" h="840">
                  <a:moveTo>
                    <a:pt x="0" y="312"/>
                  </a:moveTo>
                  <a:cubicBezTo>
                    <a:pt x="105" y="280"/>
                    <a:pt x="417" y="171"/>
                    <a:pt x="632" y="120"/>
                  </a:cubicBezTo>
                  <a:cubicBezTo>
                    <a:pt x="847" y="69"/>
                    <a:pt x="1091" y="16"/>
                    <a:pt x="1288" y="8"/>
                  </a:cubicBezTo>
                  <a:cubicBezTo>
                    <a:pt x="1485" y="0"/>
                    <a:pt x="1687" y="11"/>
                    <a:pt x="1816" y="72"/>
                  </a:cubicBezTo>
                  <a:cubicBezTo>
                    <a:pt x="1945" y="133"/>
                    <a:pt x="2063" y="248"/>
                    <a:pt x="2064" y="376"/>
                  </a:cubicBezTo>
                  <a:cubicBezTo>
                    <a:pt x="2065" y="504"/>
                    <a:pt x="1874" y="743"/>
                    <a:pt x="1824" y="84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11280" y="4140360"/>
            <a:ext cx="6807240" cy="1320480"/>
            <a:chOff x="1511280" y="4140360"/>
            <a:chExt cx="6807240" cy="1320480"/>
          </a:xfrm>
        </p:grpSpPr>
        <p:sp>
          <p:nvSpPr>
            <p:cNvPr id="242" name=""/>
            <p:cNvSpPr/>
            <p:nvPr/>
          </p:nvSpPr>
          <p:spPr>
            <a:xfrm>
              <a:off x="4280040" y="4140360"/>
              <a:ext cx="4038480" cy="1320480"/>
            </a:xfrm>
            <a:custGeom>
              <a:avLst/>
              <a:gdLst/>
              <a:ahLst/>
              <a:rect l="l" t="t" r="r" b="b"/>
              <a:pathLst>
                <a:path w="2544" h="832">
                  <a:moveTo>
                    <a:pt x="0" y="0"/>
                  </a:moveTo>
                  <a:cubicBezTo>
                    <a:pt x="46" y="165"/>
                    <a:pt x="125" y="327"/>
                    <a:pt x="272" y="448"/>
                  </a:cubicBezTo>
                  <a:cubicBezTo>
                    <a:pt x="419" y="569"/>
                    <a:pt x="623" y="669"/>
                    <a:pt x="880" y="728"/>
                  </a:cubicBezTo>
                  <a:cubicBezTo>
                    <a:pt x="1137" y="787"/>
                    <a:pt x="1539" y="832"/>
                    <a:pt x="1816" y="800"/>
                  </a:cubicBezTo>
                  <a:cubicBezTo>
                    <a:pt x="2093" y="768"/>
                    <a:pt x="2392" y="591"/>
                    <a:pt x="2544" y="53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1280" y="4876920"/>
              <a:ext cx="14860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523880" y="2997360"/>
            <a:ext cx="5854680" cy="2713680"/>
            <a:chOff x="1523880" y="2997360"/>
            <a:chExt cx="5854680" cy="2713680"/>
          </a:xfrm>
        </p:grpSpPr>
        <p:sp>
          <p:nvSpPr>
            <p:cNvPr id="245" name=""/>
            <p:cNvSpPr/>
            <p:nvPr/>
          </p:nvSpPr>
          <p:spPr>
            <a:xfrm>
              <a:off x="1523880" y="5257800"/>
              <a:ext cx="16131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997360"/>
              <a:ext cx="977760" cy="1015920"/>
            </a:xfrm>
            <a:custGeom>
              <a:avLst/>
              <a:gdLst/>
              <a:ahLst/>
              <a:rect l="l" t="t" r="r" b="b"/>
              <a:pathLst>
                <a:path w="616" h="640">
                  <a:moveTo>
                    <a:pt x="0" y="640"/>
                  </a:moveTo>
                  <a:cubicBezTo>
                    <a:pt x="54" y="570"/>
                    <a:pt x="108" y="501"/>
                    <a:pt x="136" y="432"/>
                  </a:cubicBezTo>
                  <a:cubicBezTo>
                    <a:pt x="164" y="363"/>
                    <a:pt x="88" y="296"/>
                    <a:pt x="168" y="224"/>
                  </a:cubicBezTo>
                  <a:cubicBezTo>
                    <a:pt x="248" y="152"/>
                    <a:pt x="536" y="37"/>
                    <a:pt x="61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3880" y="4457880"/>
            <a:ext cx="5537160" cy="1634040"/>
            <a:chOff x="1523880" y="4457880"/>
            <a:chExt cx="5537160" cy="1634040"/>
          </a:xfrm>
        </p:grpSpPr>
        <p:sp>
          <p:nvSpPr>
            <p:cNvPr id="248" name=""/>
            <p:cNvSpPr/>
            <p:nvPr/>
          </p:nvSpPr>
          <p:spPr>
            <a:xfrm>
              <a:off x="1523880" y="5638680"/>
              <a:ext cx="20196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9200" y="4457880"/>
              <a:ext cx="2031840" cy="395280"/>
            </a:xfrm>
            <a:custGeom>
              <a:avLst/>
              <a:gdLst/>
              <a:ahLst/>
              <a:rect l="l" t="t" r="r" b="b"/>
              <a:pathLst>
                <a:path w="1280" h="249">
                  <a:moveTo>
                    <a:pt x="0" y="8"/>
                  </a:moveTo>
                  <a:cubicBezTo>
                    <a:pt x="201" y="128"/>
                    <a:pt x="403" y="249"/>
                    <a:pt x="616" y="248"/>
                  </a:cubicBezTo>
                  <a:cubicBezTo>
                    <a:pt x="829" y="247"/>
                    <a:pt x="1054" y="123"/>
                    <a:pt x="1280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4470480"/>
            <a:ext cx="6210360" cy="2002680"/>
            <a:chOff x="1523880" y="4470480"/>
            <a:chExt cx="6210360" cy="2002680"/>
          </a:xfrm>
        </p:grpSpPr>
        <p:sp>
          <p:nvSpPr>
            <p:cNvPr id="251" name=""/>
            <p:cNvSpPr/>
            <p:nvPr/>
          </p:nvSpPr>
          <p:spPr>
            <a:xfrm>
              <a:off x="1523880" y="6019920"/>
              <a:ext cx="19051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9440" y="4470480"/>
              <a:ext cx="2044800" cy="411120"/>
            </a:xfrm>
            <a:custGeom>
              <a:avLst/>
              <a:gdLst/>
              <a:ahLst/>
              <a:rect l="l" t="t" r="r" b="b"/>
              <a:pathLst>
                <a:path w="1288" h="259">
                  <a:moveTo>
                    <a:pt x="0" y="16"/>
                  </a:moveTo>
                  <a:cubicBezTo>
                    <a:pt x="296" y="137"/>
                    <a:pt x="593" y="259"/>
                    <a:pt x="808" y="256"/>
                  </a:cubicBezTo>
                  <a:cubicBezTo>
                    <a:pt x="1023" y="253"/>
                    <a:pt x="1155" y="126"/>
                    <a:pt x="1288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00A8-7A23-4B89-8D1C-89ED96B21A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3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4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mpute concepts at node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uppose, we want to find a semantic relation between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5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1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43160" y="2371680"/>
            <a:ext cx="5607000" cy="2690640"/>
            <a:chOff x="2243160" y="2371680"/>
            <a:chExt cx="5607000" cy="2690640"/>
          </a:xfrm>
        </p:grpSpPr>
        <p:graphicFrame>
          <p:nvGraphicFramePr>
            <p:cNvPr id="256" name=""/>
            <p:cNvGraphicFramePr/>
            <p:nvPr/>
          </p:nvGraphicFramePr>
          <p:xfrm>
            <a:off x="2243160" y="2371680"/>
            <a:ext cx="5607000" cy="269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43160" y="2371680"/>
                      <a:ext cx="5607000" cy="26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8" name=""/>
            <p:cNvGrpSpPr/>
            <p:nvPr/>
          </p:nvGrpSpPr>
          <p:grpSpPr>
            <a:xfrm>
              <a:off x="4800600" y="2641680"/>
              <a:ext cx="1575000" cy="1350720"/>
              <a:chOff x="4800600" y="2641680"/>
              <a:chExt cx="1575000" cy="1350720"/>
            </a:xfrm>
          </p:grpSpPr>
          <p:sp>
            <p:nvSpPr>
              <p:cNvPr id="259" name=""/>
              <p:cNvSpPr/>
              <p:nvPr/>
            </p:nvSpPr>
            <p:spPr>
              <a:xfrm>
                <a:off x="6086520" y="2778120"/>
                <a:ext cx="289080" cy="295200"/>
              </a:xfrm>
              <a:prstGeom prst="donut">
                <a:avLst>
                  <a:gd name="adj" fmla="val 29717"/>
                </a:avLst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800600" y="2641680"/>
                <a:ext cx="1257480" cy="1350720"/>
                <a:chOff x="4800600" y="2641680"/>
                <a:chExt cx="1257480" cy="1350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800600" y="3659040"/>
                  <a:ext cx="335160" cy="333360"/>
                </a:xfrm>
                <a:prstGeom prst="donut">
                  <a:avLst>
                    <a:gd name="adj" fmla="val 29597"/>
                  </a:avLst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5021280" y="2641680"/>
                  <a:ext cx="1036800" cy="977760"/>
                  <a:chOff x="5021280" y="2641680"/>
                  <a:chExt cx="1036800" cy="9777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021280" y="2959200"/>
                    <a:ext cx="103680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3" h="456">
                        <a:moveTo>
                          <a:pt x="13" y="456"/>
                        </a:moveTo>
                        <a:cubicBezTo>
                          <a:pt x="6" y="354"/>
                          <a:pt x="0" y="252"/>
                          <a:pt x="93" y="176"/>
                        </a:cubicBezTo>
                        <a:cubicBezTo>
                          <a:pt x="186" y="100"/>
                          <a:pt x="493" y="31"/>
                          <a:pt x="57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800000"/>
                    </a:solidFill>
                    <a:round/>
                    <a:headEnd len="lg" type="stealth" w="sm"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194440" y="2641680"/>
                    <a:ext cx="469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800000"/>
                        </a:solidFill>
                        <a:latin typeface="Arial"/>
                      </a:rPr>
                      <a:t>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5" name=""/>
          <p:cNvSpPr/>
          <p:nvPr/>
        </p:nvSpPr>
        <p:spPr>
          <a:xfrm>
            <a:off x="1506600" y="4581360"/>
            <a:ext cx="28242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6CDA-607F-468F-BDEB-7054DCCD2B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4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struct the propositional formula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We translate all the semantic relations computed in step 2 into propositional formulas under the following rules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440" y="2684520"/>
            <a:ext cx="33429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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=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(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6840" y="2549520"/>
            <a:ext cx="4405320" cy="2063520"/>
            <a:chOff x="4776840" y="2549520"/>
            <a:chExt cx="4405320" cy="2063520"/>
          </a:xfrm>
        </p:grpSpPr>
        <p:graphicFrame>
          <p:nvGraphicFramePr>
            <p:cNvPr id="270" name=""/>
            <p:cNvGraphicFramePr/>
            <p:nvPr/>
          </p:nvGraphicFramePr>
          <p:xfrm>
            <a:off x="4776840" y="2549520"/>
            <a:ext cx="4405320" cy="2063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76840" y="2549520"/>
                      <a:ext cx="4405320" cy="20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6800760" y="356544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6160" y="286992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6240" y="2989080"/>
              <a:ext cx="766800" cy="581040"/>
            </a:xfrm>
            <a:custGeom>
              <a:avLst/>
              <a:gdLst/>
              <a:ahLst/>
              <a:rect l="l" t="t" r="r" b="b"/>
              <a:pathLst>
                <a:path w="483" h="366">
                  <a:moveTo>
                    <a:pt x="0" y="366"/>
                  </a:moveTo>
                  <a:cubicBezTo>
                    <a:pt x="48" y="324"/>
                    <a:pt x="97" y="283"/>
                    <a:pt x="120" y="243"/>
                  </a:cubicBezTo>
                  <a:cubicBezTo>
                    <a:pt x="143" y="203"/>
                    <a:pt x="75" y="166"/>
                    <a:pt x="135" y="126"/>
                  </a:cubicBezTo>
                  <a:cubicBezTo>
                    <a:pt x="195" y="86"/>
                    <a:pt x="425" y="21"/>
                    <a:pt x="483" y="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20080" y="2855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36760" y="3940200"/>
            <a:ext cx="66722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rom step 2 we have: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want to prove that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( we guess relation between nodes at this s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A317-0D0F-4932-B824-16928F29B2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5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11200" y="1382400"/>
            <a:ext cx="70963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un SA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order to prove that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valid, we prove that its negation is unsatisfiabil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AT returns FALS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9360" y="3990960"/>
            <a:ext cx="6913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3983-E2AB-4971-A369-B641FBE033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pid vs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371600" y="1403280"/>
            <a:ext cx="7675560" cy="4926600"/>
            <a:chOff x="1371600" y="1403280"/>
            <a:chExt cx="7675560" cy="4926600"/>
          </a:xfrm>
        </p:grpSpPr>
        <p:grpSp>
          <p:nvGrpSpPr>
            <p:cNvPr id="282" name=""/>
            <p:cNvGrpSpPr/>
            <p:nvPr/>
          </p:nvGrpSpPr>
          <p:grpSpPr>
            <a:xfrm>
              <a:off x="1371600" y="1417680"/>
              <a:ext cx="3392280" cy="4583520"/>
              <a:chOff x="1371600" y="1417680"/>
              <a:chExt cx="3392280" cy="45835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371600" y="1887480"/>
                <a:ext cx="3392280" cy="4113720"/>
                <a:chOff x="1371600" y="1887480"/>
                <a:chExt cx="3392280" cy="4113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412720" y="1887480"/>
                  <a:ext cx="89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90640" y="3528720"/>
                  <a:ext cx="207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Organiz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69920" y="2649240"/>
                  <a:ext cx="1754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 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7" name=""/>
                <p:cNvCxnSpPr>
                  <a:stCxn id="284" idx="2"/>
                  <a:endCxn id="286" idx="0"/>
                </p:cNvCxnSpPr>
                <p:nvPr/>
              </p:nvCxnSpPr>
              <p:spPr>
                <a:xfrm>
                  <a:off x="2860200" y="2284200"/>
                  <a:ext cx="888120" cy="3657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8" name=""/>
                <p:cNvCxnSpPr>
                  <a:stCxn id="286" idx="2"/>
                  <a:endCxn id="285" idx="0"/>
                </p:cNvCxnSpPr>
                <p:nvPr/>
              </p:nvCxnSpPr>
              <p:spPr>
                <a:xfrm flipH="1">
                  <a:off x="3727080" y="3046320"/>
                  <a:ext cx="20880" cy="4831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89" name=""/>
                <p:cNvSpPr/>
                <p:nvPr/>
              </p:nvSpPr>
              <p:spPr>
                <a:xfrm>
                  <a:off x="1466640" y="3030480"/>
                  <a:ext cx="103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Musi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0" name=""/>
                <p:cNvCxnSpPr>
                  <a:stCxn id="284" idx="2"/>
                  <a:endCxn id="289" idx="0"/>
                </p:cNvCxnSpPr>
                <p:nvPr/>
              </p:nvCxnSpPr>
              <p:spPr>
                <a:xfrm flipH="1">
                  <a:off x="1981800" y="2283840"/>
                  <a:ext cx="878760" cy="747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91" name=""/>
                <p:cNvSpPr/>
                <p:nvPr/>
              </p:nvSpPr>
              <p:spPr>
                <a:xfrm>
                  <a:off x="1371600" y="5602320"/>
                  <a:ext cx="1292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Baroq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07960" y="4335480"/>
                  <a:ext cx="12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3" name=""/>
                <p:cNvCxnSpPr>
                  <a:stCxn id="292" idx="2"/>
                  <a:endCxn id="291" idx="0"/>
                </p:cNvCxnSpPr>
                <p:nvPr/>
              </p:nvCxnSpPr>
              <p:spPr>
                <a:xfrm>
                  <a:off x="2010960" y="4731840"/>
                  <a:ext cx="6840" cy="870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94" name=""/>
                <p:cNvCxnSpPr>
                  <a:stCxn id="289" idx="2"/>
                </p:cNvCxnSpPr>
                <p:nvPr/>
              </p:nvCxnSpPr>
              <p:spPr>
                <a:xfrm flipH="1">
                  <a:off x="1966320" y="3426840"/>
                  <a:ext cx="16560" cy="909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95" name=""/>
              <p:cNvSpPr/>
              <p:nvPr/>
            </p:nvSpPr>
            <p:spPr>
              <a:xfrm>
                <a:off x="1876320" y="1417680"/>
                <a:ext cx="23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google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010120" y="1403280"/>
              <a:ext cx="4037040" cy="4926600"/>
              <a:chOff x="5010120" y="1403280"/>
              <a:chExt cx="4037040" cy="4926600"/>
            </a:xfrm>
          </p:grpSpPr>
          <p:sp>
            <p:nvSpPr>
              <p:cNvPr id="297" name=""/>
              <p:cNvSpPr/>
              <p:nvPr/>
            </p:nvSpPr>
            <p:spPr>
              <a:xfrm>
                <a:off x="5010120" y="3525840"/>
                <a:ext cx="195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96160" y="186228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&amp;Human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59520" y="2624040"/>
                <a:ext cx="17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0" name=""/>
              <p:cNvCxnSpPr>
                <a:stCxn id="298" idx="2"/>
                <a:endCxn id="299" idx="0"/>
              </p:cNvCxnSpPr>
              <p:nvPr/>
            </p:nvCxnSpPr>
            <p:spPr>
              <a:xfrm flipH="1">
                <a:off x="6041880" y="2259000"/>
                <a:ext cx="124200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"/>
              <p:cNvCxnSpPr>
                <a:stCxn id="299" idx="2"/>
                <a:endCxn id="297" idx="0"/>
              </p:cNvCxnSpPr>
              <p:nvPr/>
            </p:nvCxnSpPr>
            <p:spPr>
              <a:xfrm flipH="1">
                <a:off x="5989320" y="3021120"/>
                <a:ext cx="53280" cy="505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298" idx="2"/>
              </p:cNvCxnSpPr>
              <p:nvPr/>
            </p:nvCxnSpPr>
            <p:spPr>
              <a:xfrm>
                <a:off x="7283520" y="2259000"/>
                <a:ext cx="1037520" cy="7452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3" name=""/>
              <p:cNvSpPr/>
              <p:nvPr/>
            </p:nvSpPr>
            <p:spPr>
              <a:xfrm>
                <a:off x="6113520" y="1403280"/>
                <a:ext cx="201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yahoo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67760" y="3063960"/>
                <a:ext cx="167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Design A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5360" y="5931000"/>
                <a:ext cx="139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67680" y="3916440"/>
                <a:ext cx="177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chitec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7" name=""/>
              <p:cNvCxnSpPr>
                <a:stCxn id="306" idx="2"/>
                <a:endCxn id="308" idx="0"/>
              </p:cNvCxnSpPr>
              <p:nvPr/>
            </p:nvCxnSpPr>
            <p:spPr>
              <a:xfrm>
                <a:off x="8158320" y="4312800"/>
                <a:ext cx="10080" cy="63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"/>
              <p:cNvCxnSpPr>
                <a:stCxn id="304" idx="2"/>
              </p:cNvCxnSpPr>
              <p:nvPr/>
            </p:nvCxnSpPr>
            <p:spPr>
              <a:xfrm>
                <a:off x="8204400" y="3460680"/>
                <a:ext cx="8640" cy="456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7581960" y="4943520"/>
                <a:ext cx="117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308" idx="2"/>
              </p:cNvCxnSpPr>
              <p:nvPr/>
            </p:nvCxnSpPr>
            <p:spPr>
              <a:xfrm>
                <a:off x="8167320" y="5340240"/>
                <a:ext cx="10440" cy="63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11" name=""/>
          <p:cNvGrpSpPr/>
          <p:nvPr/>
        </p:nvGrpSpPr>
        <p:grpSpPr>
          <a:xfrm>
            <a:off x="2563920" y="3921120"/>
            <a:ext cx="4989240" cy="2584440"/>
            <a:chOff x="2563920" y="3921120"/>
            <a:chExt cx="4989240" cy="2584440"/>
          </a:xfrm>
        </p:grpSpPr>
        <p:sp>
          <p:nvSpPr>
            <p:cNvPr id="312" name=""/>
            <p:cNvSpPr/>
            <p:nvPr/>
          </p:nvSpPr>
          <p:spPr>
            <a:xfrm>
              <a:off x="2563920" y="5869080"/>
              <a:ext cx="4989240" cy="6364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8760" y="392112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367000" y="1479600"/>
            <a:ext cx="5256000" cy="4578480"/>
            <a:chOff x="2367000" y="1479600"/>
            <a:chExt cx="5256000" cy="4578480"/>
          </a:xfrm>
        </p:grpSpPr>
        <p:grpSp>
          <p:nvGrpSpPr>
            <p:cNvPr id="315" name=""/>
            <p:cNvGrpSpPr/>
            <p:nvPr/>
          </p:nvGrpSpPr>
          <p:grpSpPr>
            <a:xfrm>
              <a:off x="2600280" y="5156280"/>
              <a:ext cx="4927680" cy="890640"/>
              <a:chOff x="2600280" y="5156280"/>
              <a:chExt cx="4927680" cy="890640"/>
            </a:xfrm>
          </p:grpSpPr>
          <p:sp>
            <p:nvSpPr>
              <p:cNvPr id="316" name=""/>
              <p:cNvSpPr/>
              <p:nvPr/>
            </p:nvSpPr>
            <p:spPr>
              <a:xfrm>
                <a:off x="2600280" y="5522760"/>
                <a:ext cx="4927680" cy="524160"/>
              </a:xfrm>
              <a:custGeom>
                <a:avLst/>
                <a:gdLst/>
                <a:ahLst/>
                <a:rect l="l" t="t" r="r" b="b"/>
                <a:pathLst>
                  <a:path w="3104" h="330">
                    <a:moveTo>
                      <a:pt x="0" y="143"/>
                    </a:moveTo>
                    <a:cubicBezTo>
                      <a:pt x="239" y="125"/>
                      <a:pt x="919" y="0"/>
                      <a:pt x="1436" y="31"/>
                    </a:cubicBezTo>
                    <a:cubicBezTo>
                      <a:pt x="1953" y="62"/>
                      <a:pt x="2757" y="268"/>
                      <a:pt x="3104" y="330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99120" y="5156280"/>
                <a:ext cx="85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811680" y="3016440"/>
              <a:ext cx="2136600" cy="620640"/>
              <a:chOff x="3811680" y="3016440"/>
              <a:chExt cx="2136600" cy="62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3811680" y="336852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51400" y="301644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367000" y="2982960"/>
              <a:ext cx="5256000" cy="2197080"/>
              <a:chOff x="2367000" y="2982960"/>
              <a:chExt cx="5256000" cy="219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2367000" y="2982960"/>
                <a:ext cx="5256000" cy="2197080"/>
              </a:xfrm>
              <a:custGeom>
                <a:avLst/>
                <a:gdLst/>
                <a:ahLst/>
                <a:rect l="l" t="t" r="r" b="b"/>
                <a:pathLst>
                  <a:path w="3311" h="1384">
                    <a:moveTo>
                      <a:pt x="401" y="0"/>
                    </a:moveTo>
                    <a:cubicBezTo>
                      <a:pt x="351" y="109"/>
                      <a:pt x="0" y="458"/>
                      <a:pt x="102" y="651"/>
                    </a:cubicBezTo>
                    <a:cubicBezTo>
                      <a:pt x="204" y="844"/>
                      <a:pt x="480" y="1038"/>
                      <a:pt x="1015" y="1160"/>
                    </a:cubicBezTo>
                    <a:cubicBezTo>
                      <a:pt x="1550" y="1282"/>
                      <a:pt x="2833" y="1337"/>
                      <a:pt x="3311" y="1384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94080" y="4559400"/>
                <a:ext cx="89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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811680" y="2063880"/>
              <a:ext cx="2136600" cy="620640"/>
              <a:chOff x="3811680" y="2063880"/>
              <a:chExt cx="2136600" cy="620640"/>
            </a:xfrm>
          </p:grpSpPr>
          <p:sp>
            <p:nvSpPr>
              <p:cNvPr id="325" name=""/>
              <p:cNvSpPr/>
              <p:nvPr/>
            </p:nvSpPr>
            <p:spPr>
              <a:xfrm>
                <a:off x="3811680" y="241596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51400" y="2063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727360" y="2933640"/>
              <a:ext cx="4481640" cy="3124440"/>
            </a:xfrm>
            <a:custGeom>
              <a:avLst/>
              <a:gdLst/>
              <a:ahLst/>
              <a:rect l="l" t="t" r="r" b="b"/>
              <a:pathLst>
                <a:path w="2823" h="1968">
                  <a:moveTo>
                    <a:pt x="0" y="1840"/>
                  </a:moveTo>
                  <a:cubicBezTo>
                    <a:pt x="260" y="1853"/>
                    <a:pt x="1157" y="1968"/>
                    <a:pt x="1560" y="1920"/>
                  </a:cubicBezTo>
                  <a:cubicBezTo>
                    <a:pt x="1963" y="1872"/>
                    <a:pt x="2208" y="1747"/>
                    <a:pt x="2416" y="1552"/>
                  </a:cubicBezTo>
                  <a:cubicBezTo>
                    <a:pt x="2624" y="1357"/>
                    <a:pt x="2793" y="1011"/>
                    <a:pt x="2808" y="752"/>
                  </a:cubicBezTo>
                  <a:cubicBezTo>
                    <a:pt x="2823" y="493"/>
                    <a:pt x="2567" y="157"/>
                    <a:pt x="2504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75400" y="43941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76640" y="1827360"/>
              <a:ext cx="2816280" cy="27288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1080" y="1479600"/>
              <a:ext cx="6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28A3-9C81-4099-A2C6-D4F124A671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made a rational reconstruction of the major matching problems and articulated them in terms of the more generic problem of matching graphs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identified semantic matching as a new approach for performing generic matching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proposed an implementation of semantic matching using SAT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53A3-F3D9-4CCA-93BB-4B54AB781D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810D-BB1D-4D20-85D6-993D23DC4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tend to a full graph matc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How to extract semantics from schema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tudy how to take into account attributes and instanc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evelop an efficient implementation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o a thorough testing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3F85-472E-4B14-8822-71A2109E7A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6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ject website: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p2p/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P.Shvaiko “Semantic Matching”. Technical Report #DIT-03-013. Also to appear in The Knowledge Engineering Review journal. Short version in proceedings of Semantic Integration workshop at ISWC’03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I. Zaihrayeu “Making peer databases interact – a vision for an architecture supporting data coordination”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</a:rPr>
              <a:t>In Proc. Of the Conference of Information Agent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(CIA 2002), Madrid, 2002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98E7-9595-456C-B2F1-B66FDE524E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Application Domai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7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Generic Model Managemen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chema integrati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ata warehous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Data Coordination in P2P systems, Semantic Web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C046-C90C-42BD-87CC-9DE1F264D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484"/>
                </a:solidFill>
                <a:latin typeface="Arial"/>
              </a:rPr>
              <a:t>Example of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6680" y="1557360"/>
            <a:ext cx="3392280" cy="4583520"/>
            <a:chOff x="1336680" y="1557360"/>
            <a:chExt cx="3392280" cy="4583520"/>
          </a:xfrm>
        </p:grpSpPr>
        <p:grpSp>
          <p:nvGrpSpPr>
            <p:cNvPr id="111" name=""/>
            <p:cNvGrpSpPr/>
            <p:nvPr/>
          </p:nvGrpSpPr>
          <p:grpSpPr>
            <a:xfrm>
              <a:off x="1336680" y="2027160"/>
              <a:ext cx="3392280" cy="4113720"/>
              <a:chOff x="1336680" y="2027160"/>
              <a:chExt cx="3392280" cy="411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377800" y="2027160"/>
                <a:ext cx="89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55720" y="3668400"/>
                <a:ext cx="20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35000" y="2788920"/>
                <a:ext cx="175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stCxn id="112" idx="2"/>
                <a:endCxn id="114" idx="0"/>
              </p:cNvCxnSpPr>
              <p:nvPr/>
            </p:nvCxnSpPr>
            <p:spPr>
              <a:xfrm>
                <a:off x="2825280" y="2423880"/>
                <a:ext cx="88812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6" name=""/>
              <p:cNvCxnSpPr>
                <a:stCxn id="114" idx="2"/>
                <a:endCxn id="113" idx="0"/>
              </p:cNvCxnSpPr>
              <p:nvPr/>
            </p:nvCxnSpPr>
            <p:spPr>
              <a:xfrm flipH="1">
                <a:off x="3692160" y="3186000"/>
                <a:ext cx="20880" cy="483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1431720" y="3170160"/>
                <a:ext cx="103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Mus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" name=""/>
              <p:cNvCxnSpPr>
                <a:stCxn id="112" idx="2"/>
                <a:endCxn id="117" idx="0"/>
              </p:cNvCxnSpPr>
              <p:nvPr/>
            </p:nvCxnSpPr>
            <p:spPr>
              <a:xfrm flipH="1">
                <a:off x="1946880" y="2423520"/>
                <a:ext cx="878760" cy="747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1336680" y="5742000"/>
                <a:ext cx="129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73040" y="447516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20" idx="2"/>
                <a:endCxn id="119" idx="0"/>
              </p:cNvCxnSpPr>
              <p:nvPr/>
            </p:nvCxnSpPr>
            <p:spPr>
              <a:xfrm>
                <a:off x="1976040" y="4871520"/>
                <a:ext cx="6840" cy="870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"/>
              <p:cNvCxnSpPr>
                <a:stCxn id="117" idx="2"/>
              </p:cNvCxnSpPr>
              <p:nvPr/>
            </p:nvCxnSpPr>
            <p:spPr>
              <a:xfrm flipH="1">
                <a:off x="1931400" y="3566520"/>
                <a:ext cx="16560" cy="909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3" name=""/>
            <p:cNvSpPr/>
            <p:nvPr/>
          </p:nvSpPr>
          <p:spPr>
            <a:xfrm>
              <a:off x="1841400" y="1557360"/>
              <a:ext cx="23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googl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75200" y="1542960"/>
            <a:ext cx="4037040" cy="4926600"/>
            <a:chOff x="4975200" y="1542960"/>
            <a:chExt cx="4037040" cy="4926600"/>
          </a:xfrm>
        </p:grpSpPr>
        <p:sp>
          <p:nvSpPr>
            <p:cNvPr id="125" name=""/>
            <p:cNvSpPr/>
            <p:nvPr/>
          </p:nvSpPr>
          <p:spPr>
            <a:xfrm>
              <a:off x="4975200" y="366552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Organiz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1240" y="20019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s&amp;Human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4600" y="2763720"/>
              <a:ext cx="17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 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6" idx="2"/>
              <a:endCxn id="127" idx="0"/>
            </p:cNvCxnSpPr>
            <p:nvPr/>
          </p:nvCxnSpPr>
          <p:spPr>
            <a:xfrm flipH="1">
              <a:off x="6006960" y="2398680"/>
              <a:ext cx="124200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7" idx="2"/>
              <a:endCxn id="125" idx="0"/>
            </p:cNvCxnSpPr>
            <p:nvPr/>
          </p:nvCxnSpPr>
          <p:spPr>
            <a:xfrm flipH="1">
              <a:off x="5954400" y="3160800"/>
              <a:ext cx="53280" cy="505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6" idx="2"/>
            </p:cNvCxnSpPr>
            <p:nvPr/>
          </p:nvCxnSpPr>
          <p:spPr>
            <a:xfrm>
              <a:off x="7248600" y="2398680"/>
              <a:ext cx="1037520" cy="745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6078600" y="1542960"/>
              <a:ext cx="20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32840" y="320364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Design 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0440" y="607068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Bar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2760" y="4056120"/>
              <a:ext cx="177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2"/>
              <a:endCxn id="136" idx="0"/>
            </p:cNvCxnSpPr>
            <p:nvPr/>
          </p:nvCxnSpPr>
          <p:spPr>
            <a:xfrm>
              <a:off x="8123400" y="4452480"/>
              <a:ext cx="1008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2" idx="2"/>
            </p:cNvCxnSpPr>
            <p:nvPr/>
          </p:nvCxnSpPr>
          <p:spPr>
            <a:xfrm>
              <a:off x="8169480" y="3600360"/>
              <a:ext cx="8640" cy="45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7547040" y="5083200"/>
              <a:ext cx="117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2"/>
            </p:cNvCxnSpPr>
            <p:nvPr/>
          </p:nvCxnSpPr>
          <p:spPr>
            <a:xfrm>
              <a:off x="8132400" y="5479920"/>
              <a:ext cx="10440" cy="63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529000" y="5996160"/>
            <a:ext cx="4989240" cy="537120"/>
            <a:chOff x="2529000" y="5996160"/>
            <a:chExt cx="4989240" cy="537120"/>
          </a:xfrm>
        </p:grpSpPr>
        <p:sp>
          <p:nvSpPr>
            <p:cNvPr id="140" name=""/>
            <p:cNvSpPr/>
            <p:nvPr/>
          </p:nvSpPr>
          <p:spPr>
            <a:xfrm>
              <a:off x="2529000" y="5996160"/>
              <a:ext cx="4989240" cy="4708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35760" y="6127560"/>
              <a:ext cx="911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65360" y="5295960"/>
            <a:ext cx="4927680" cy="890640"/>
            <a:chOff x="2565360" y="5295960"/>
            <a:chExt cx="4927680" cy="890640"/>
          </a:xfrm>
        </p:grpSpPr>
        <p:sp>
          <p:nvSpPr>
            <p:cNvPr id="143" name=""/>
            <p:cNvSpPr/>
            <p:nvPr/>
          </p:nvSpPr>
          <p:spPr>
            <a:xfrm>
              <a:off x="2565360" y="5662440"/>
              <a:ext cx="4927680" cy="524160"/>
            </a:xfrm>
            <a:custGeom>
              <a:avLst/>
              <a:gdLst/>
              <a:ahLst/>
              <a:rect l="l" t="t" r="r" b="b"/>
              <a:pathLst>
                <a:path w="3104" h="330">
                  <a:moveTo>
                    <a:pt x="0" y="143"/>
                  </a:moveTo>
                  <a:cubicBezTo>
                    <a:pt x="239" y="125"/>
                    <a:pt x="919" y="0"/>
                    <a:pt x="1436" y="31"/>
                  </a:cubicBezTo>
                  <a:cubicBezTo>
                    <a:pt x="1953" y="62"/>
                    <a:pt x="2757" y="268"/>
                    <a:pt x="3104" y="33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5295960"/>
              <a:ext cx="855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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33840" y="3938760"/>
            <a:ext cx="2327400" cy="423720"/>
            <a:chOff x="3633840" y="3938760"/>
            <a:chExt cx="2327400" cy="423720"/>
          </a:xfrm>
        </p:grpSpPr>
        <p:sp>
          <p:nvSpPr>
            <p:cNvPr id="146" name=""/>
            <p:cNvSpPr/>
            <p:nvPr/>
          </p:nvSpPr>
          <p:spPr>
            <a:xfrm>
              <a:off x="3633840" y="406080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3800" y="3938760"/>
              <a:ext cx="91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76760" y="3156120"/>
            <a:ext cx="2136600" cy="680040"/>
            <a:chOff x="3776760" y="3156120"/>
            <a:chExt cx="2136600" cy="680040"/>
          </a:xfrm>
        </p:grpSpPr>
        <p:sp>
          <p:nvSpPr>
            <p:cNvPr id="149" name=""/>
            <p:cNvSpPr/>
            <p:nvPr/>
          </p:nvSpPr>
          <p:spPr>
            <a:xfrm>
              <a:off x="3776760" y="3508200"/>
              <a:ext cx="2136600" cy="26856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6480" y="3156120"/>
              <a:ext cx="8557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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2080" y="3122640"/>
            <a:ext cx="5256000" cy="2197080"/>
            <a:chOff x="2332080" y="3122640"/>
            <a:chExt cx="5256000" cy="2197080"/>
          </a:xfrm>
        </p:grpSpPr>
        <p:sp>
          <p:nvSpPr>
            <p:cNvPr id="152" name=""/>
            <p:cNvSpPr/>
            <p:nvPr/>
          </p:nvSpPr>
          <p:spPr>
            <a:xfrm>
              <a:off x="2332080" y="3122640"/>
              <a:ext cx="5256000" cy="2197080"/>
            </a:xfrm>
            <a:custGeom>
              <a:avLst/>
              <a:gdLst/>
              <a:ahLst/>
              <a:rect l="l" t="t" r="r" b="b"/>
              <a:pathLst>
                <a:path w="3311" h="1384">
                  <a:moveTo>
                    <a:pt x="401" y="0"/>
                  </a:moveTo>
                  <a:cubicBezTo>
                    <a:pt x="351" y="109"/>
                    <a:pt x="0" y="458"/>
                    <a:pt x="102" y="651"/>
                  </a:cubicBezTo>
                  <a:cubicBezTo>
                    <a:pt x="204" y="844"/>
                    <a:pt x="480" y="1038"/>
                    <a:pt x="1015" y="1160"/>
                  </a:cubicBezTo>
                  <a:cubicBezTo>
                    <a:pt x="1550" y="1282"/>
                    <a:pt x="2833" y="1337"/>
                    <a:pt x="3311" y="1384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4699080"/>
              <a:ext cx="892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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8289-02A8-4BBE-A48C-55C8D3DF3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2600" y="1770120"/>
            <a:ext cx="806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is an operator that takes two graph-like structures (e.g., database schemas or ontologies) and produces a mapping between elements of the two graphs that correspond semantically to each other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215A-8CC6-4FAB-B191-1D9A742D68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9240" y="1380600"/>
            <a:ext cx="790092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484"/>
                </a:solidFill>
                <a:latin typeface="Arial"/>
              </a:rPr>
              <a:t>The problem of matching can be decomposed in two steps: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Extract graphs from the data and conceptual mod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Match the resulting graphs (generic matching)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6CF7-38D3-4A41-94B0-39AE6A28F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30520"/>
            <a:ext cx="78566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6480" indent="-1864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,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set of mapping element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process of discovering mappings between two graphs through the application of a matching algorith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2CCB-C663-408A-B912-64C520770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440000" y="2139840"/>
            <a:ext cx="7354800" cy="2069280"/>
            <a:chOff x="1440000" y="2139840"/>
            <a:chExt cx="7354800" cy="2069280"/>
          </a:xfrm>
        </p:grpSpPr>
        <p:sp>
          <p:nvSpPr>
            <p:cNvPr id="161" name=""/>
            <p:cNvSpPr/>
            <p:nvPr/>
          </p:nvSpPr>
          <p:spPr>
            <a:xfrm>
              <a:off x="4689720" y="25477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57840" y="2139840"/>
              <a:ext cx="16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0360" y="35683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28040" y="3565440"/>
              <a:ext cx="16992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2200" y="374940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000" y="3725640"/>
              <a:ext cx="31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886120" y="2715840"/>
              <a:ext cx="1818000" cy="83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5880" y="27158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67000" y="4295880"/>
            <a:ext cx="299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4160" y="4281480"/>
            <a:ext cx="357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omputed betwee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concep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= { =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8420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819D-5D09-4AE9-8F51-A1A217706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luca</dc:creator>
  <dc:description/>
  <dc:language>en-US</dc:language>
  <cp:lastModifiedBy>server 9</cp:lastModifiedBy>
  <dcterms:modified xsi:type="dcterms:W3CDTF">2003-11-13T21:29:38Z</dcterms:modified>
  <cp:revision>354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1148022</vt:r8>
  </property>
  <property fmtid="{D5CDD505-2E9C-101B-9397-08002B2CF9AE}" pid="3" name="_AuthorEmail">
    <vt:lpwstr>ilya@dit.unitn.it</vt:lpwstr>
  </property>
  <property fmtid="{D5CDD505-2E9C-101B-9397-08002B2CF9AE}" pid="4" name="_AuthorEmailDisplayName">
    <vt:lpwstr>Ilya Zaihrayeu</vt:lpwstr>
  </property>
  <property fmtid="{D5CDD505-2E9C-101B-9397-08002B2CF9AE}" pid="5" name="_EmailSubject">
    <vt:lpwstr>CIA slides</vt:lpwstr>
  </property>
  <property fmtid="{D5CDD505-2E9C-101B-9397-08002B2CF9AE}" pid="6" name="_ReviewingToolsShownOnce">
    <vt:lpwstr/>
  </property>
</Properties>
</file>